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1AE-A66A-47BC-A554-92D4C791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69B-0A0C-4AAF-B068-386C034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123-2DBA-4CE9-A929-F45A4E93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276-63D8-430F-8B51-B2A5C96A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12FA-CCA7-4BC4-B37C-61DB975C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0C49-3E1B-43DA-BE95-3AF997A1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2BC7-591D-45F5-BBC5-CDB48F90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22FF-7524-4B02-8D29-2A22069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C535-D6E0-4722-AA23-D68178CE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0AA2-1FDB-4D1D-B99C-21F15CEC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10A4-D1C5-4133-828B-E7D52F7E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044-A2DC-4560-83DF-CD95C06B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3BCA-FE1E-4E0B-936B-73C12BA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3BD5-4779-4249-B52B-1E1393A2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B41C-DF1D-4841-8A08-E220C1C3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B544-3F59-4644-A2DA-E5413F99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D176-EBC8-4499-A3EC-6A6EFB95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D42-284A-490E-A3D8-4193B15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950-2D0B-4EBE-9C30-705AC554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FAA-266E-412C-9014-DA519BA8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F38-785B-4A98-ADE2-8854F4B2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A8E-18F1-4FFC-93C4-F40064B2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1E0-444E-4999-A4B4-85BF74A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63D-F4A9-4D26-9C57-A5288F3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CC30-4560-463B-8019-47D5D49A760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E6F8-0A20-4256-8BB9-AFC77D9D09BF}" type="slidenum">
              <a:rPr b="0" lang="pt-BR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ahoma"/>
              </a:rPr>
              <a:t>Drogas depressoras do SNC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Regina Ju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Efeitos%20do%20alcool%2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165240"/>
            <a:ext cx="7467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ahoma"/>
              </a:rPr>
              <a:t>Drogas depressoras do SN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Álcool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Narcótico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Sedativos e tranqüilizante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nalantes, Solventes ou Voláte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Álcoo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“</a:t>
            </a:r>
            <a:r>
              <a:rPr b="0" i="1" lang="en-US" sz="4800" spc="-1" strike="noStrike">
                <a:solidFill>
                  <a:srgbClr val="ff33cc"/>
                </a:solidFill>
                <a:latin typeface="Arial"/>
                <a:ea typeface="Arial"/>
              </a:rPr>
              <a:t>Alcoolismo é a perda da liberdade de beber.”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Ele afeta o funcionamento dos rins, fígado, coração e cérebro, provocando lesões significantes. Um dos maiores problemas do álcool é o uso por gestantes. A mulher alcoólatra, mesmo que pare de beber na gravidez, se tiver feito uso do álcool três meses antes da fertilização do óvulo, poderá comprometer a inteligência, o desenvolvimento motor, o peso e até provocar má formações genéticas no f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racteriza-se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ls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da de cont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ência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lerâ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coolism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Num primeiro momento, em quantidades reduzidas, o álcool inibe a censura interna, derrubando o autocontrole e a autocrítica. É a fase em que o bebedor fica “alegrinho” e fala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Inseguros, tímidos, angustiados ou ansiosos para entrar na vida adulta, os jovens descobrem logo que uma latinha de cerveja</a:t>
            </a: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é uma boa ajuda para convidar aquela garota para dançar ou “ficar” com um carinha cobiçado numa fe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Muitos jovens ingerem álcool para ter coragem de entrar no mundo adul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idado!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7240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certe%20a%20medida..." descr=""/>
          <p:cNvPicPr/>
          <p:nvPr/>
        </p:nvPicPr>
        <p:blipFill>
          <a:blip r:embed="rId2"/>
          <a:srcRect l="0" t="11112" r="2059" b="0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  <a:ea typeface="Arial"/>
              </a:rPr>
              <a:t>Ainda que seja contravenção penal fornecer álcool a menores de idade, inclusive dentro de casa, pode parecer até absurdo recriminar um pai que serve uma cervejinha a seu filho de 16, 17 an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  <a:ea typeface="Arial"/>
              </a:rPr>
              <a:t>Em boa parte das famílias, esse hábito está incorporado à cultura nacional - e mesmo em países onde a lei é cumprida ao pé da letra, como nos Estados Unidos, a garotada enche a cara em festas particula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Como o consumo adolescente é socialmente aceito, fica difícil saber quando um jovem está bebendo além da co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A preocupação só aparece quando se vêem as conseqüênci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Na versão inofensiva, uma bebedeira homérica é apenas uma história divertida. O problema é que muitas vezes um único excesso pode acabar em graves acidentes de carro, em relações sexuais sem preservativo e em todos esses pesadelos que costumam acometer a maioria dos pais nas noites de sáb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3T15:31:15Z</dcterms:created>
  <dc:creator>Carlos &amp; Regina</dc:creator>
  <dc:description/>
  <dc:language>en-US</dc:language>
  <cp:lastModifiedBy>LEO</cp:lastModifiedBy>
  <dcterms:modified xsi:type="dcterms:W3CDTF">2000-09-07T12:44:52Z</dcterms:modified>
  <cp:revision>8</cp:revision>
  <dc:subject/>
  <dc:title>Drogas depressoras do SNC</dc:title>
</cp:coreProperties>
</file>